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6.png" ContentType="image/png"/>
  <Override PartName="/ppt/media/image3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D64D-ADE3-488A-9AA9-78E4DCB6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F00-2339-469E-8398-15BEA99D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625-5A76-4079-B762-92676AC1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79D-896A-45FE-AF08-D6A14350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36C3-F7CF-4B6F-8995-24AC936F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7E16-5194-46AB-868D-9FD38988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669B-C076-41B5-83F8-D16BB417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5A89-AE22-4887-9F75-D2EA7A64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781B-3C84-4FC4-8028-FD4E6DDB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19D5-933E-4187-ABB5-9EB76465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5327-939E-410E-86BC-BD0339AC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62B-7020-4F7F-9699-06661092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911C-CF69-4549-AC5E-AA4E40B4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9AE9-312C-4654-9262-F8D26036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7F85-2FFE-4B9D-ABCD-97C12965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8AF4-7D91-4506-A6CF-35BA8251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D72F-767E-4EA9-B0E4-CEF8C833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F95-FF5A-44FE-837F-8103BF9E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8AA7-C452-4CD0-89A7-4EAD24CB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6F5-27ED-46B1-8F2D-217F3D35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1A1-4850-4E06-B5C1-C3E3A356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409-D482-4692-8581-2E740EDF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09D6-FB3A-4F7B-9D5A-BE6FD68E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012-C194-4E3C-B7C6-E18013C0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3E4A-9F20-4342-830D-8B6289868A4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415A-9C7A-49EE-80F0-AD5A36D5B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AB40-2705-42C0-9016-F61A2C0AEF9C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ADE0-CE75-46E7-8355-A337954010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6847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LabVIEW Large Code Architecture: Series II</a:t>
            </a:r>
            <a:br>
              <a:rPr sz="2800"/>
            </a:br>
            <a:br>
              <a:rPr sz="2800"/>
            </a:br>
            <a:r>
              <a:rPr b="0" i="1" lang="en-US" sz="3200" spc="-1" strike="noStrike">
                <a:solidFill>
                  <a:srgbClr val="ccffff"/>
                </a:solidFill>
                <a:latin typeface="Tahoma"/>
              </a:rPr>
              <a:t>Code Reuse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resented by: Jack Hamilto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outhern California LAVA User Group Meeting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November 11 2003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7" name="i_sm_download_26_isync" descr=""/>
          <p:cNvPicPr/>
          <p:nvPr/>
        </p:nvPicPr>
        <p:blipFill>
          <a:blip r:embed="rId2"/>
          <a:stretch/>
        </p:blipFill>
        <p:spPr>
          <a:xfrm>
            <a:off x="4419720" y="2819520"/>
            <a:ext cx="639720" cy="60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228600" y="609480"/>
          <a:ext cx="47628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09480"/>
                    <a:ext cx="476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amilton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EEF3-6313-4022-B313-83B7F4778A5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5565E5B-B529-414C-A72E-8842AF0261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30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vantages of Code Reusabi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’s the ‘Holy Grail’ for program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orporates preconstucted code ‘Objects’ that are proven, robust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nd more importantly – already written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ster Development time – more time allowed for critical parts of the code developm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advantag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ften hard to implement in practica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ach project is un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n’t have time – have a deadline to meet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en if I make the time –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here do I actually star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394920"/>
            <a:ext cx="7467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LabVIEW Large Code Architecture: Series II</a:t>
            </a:r>
            <a:br>
              <a:rPr sz="2400"/>
            </a:br>
            <a:r>
              <a:rPr b="0" i="1" lang="en-US" sz="2800" spc="-1" strike="noStrike">
                <a:solidFill>
                  <a:srgbClr val="ccffff"/>
                </a:solidFill>
                <a:latin typeface="Tahoma"/>
              </a:rPr>
              <a:t>Code Re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milton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CF4-8376-4737-BEE4-1153970BF7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2BB62-AE9B-43A1-8F8E-C33EAAB6C6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30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re to Star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1880" indent="-1918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ou have to change your thinking about developing cod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1880" indent="-1918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reak each part of the software into logical partit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1880" indent="-1918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nk how each block of code relates to others and resolve it to the simplest interaction – Data inputs/Outputs and Command funct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394920"/>
            <a:ext cx="7467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LabVIEW Large Code Architecture: Series II</a:t>
            </a:r>
            <a:br>
              <a:rPr sz="2800"/>
            </a:br>
            <a:r>
              <a:rPr b="0" i="1" lang="en-US" sz="2800" spc="-1" strike="noStrike">
                <a:solidFill>
                  <a:srgbClr val="ccffff"/>
                </a:solidFill>
                <a:latin typeface="Tahoma"/>
              </a:rPr>
              <a:t>Code Re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2665440" cy="226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milton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377-628D-44AB-8093-4B5D84B205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8E8A1-BA43-4CBD-ACE2-10C5350D42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30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 Problem: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le Path and Name Manag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st all software must deal with external files for system configuration and data storag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obust File I/O is very important for stable applications – it would be nice to implement error checking and recovery – but it is tedious to do at every point where a file path or name is requir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file path code will be spread throughout the entire application – making changes very difficult to manag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ring code development – all file naming conventions and locations aren’t all determined. It’s can’t be done until the code is nearly complete (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nd it’s too lat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394920"/>
            <a:ext cx="7467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LabVIEW Large Code Architecture: Series II</a:t>
            </a:r>
            <a:br>
              <a:rPr sz="2800"/>
            </a:br>
            <a:r>
              <a:rPr b="0" i="1" lang="en-US" sz="2800" spc="-1" strike="noStrike">
                <a:solidFill>
                  <a:srgbClr val="ccffff"/>
                </a:solidFill>
                <a:latin typeface="Tahoma"/>
              </a:rPr>
              <a:t>Code Re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milton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35A-1A14-418A-A950-BF37020BCC7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73794-4123-4A35-88F6-B7FFB237CE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-think i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has a very common component File Paths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– but is also unique in that each project has unique file naming conventions and loca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utput resolves itself to a single datatype: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A file path with or without a file na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utput of different paths can be specified by a single comma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394920"/>
            <a:ext cx="7467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LabVIEW Large Code Architecture: Series II</a:t>
            </a:r>
            <a:br>
              <a:rPr sz="2800"/>
            </a:br>
            <a:r>
              <a:rPr b="0" i="1" lang="en-US" sz="2800" spc="-1" strike="noStrike">
                <a:solidFill>
                  <a:srgbClr val="ccffff"/>
                </a:solidFill>
                <a:latin typeface="Tahoma"/>
              </a:rPr>
              <a:t>Code Re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milton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C37-158D-4CA3-B4E4-CB14F9A5338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710CE-090B-4F1A-96B3-E8964F7879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30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Solution: File Path Sub-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ngle VI who’s output is a Pat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put is a Ring Control that commands the output path typ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VI is called whenever a System file path is requir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en if none of the actual particulars can be defined at coding time – this single VI is a functional place holder that can be updat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anges to thi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one V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re all that is required to update or modify path or file naming requiremen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94920"/>
            <a:ext cx="7467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LabVIEW Large Code Architecture: Series II</a:t>
            </a:r>
            <a:br>
              <a:rPr sz="2800"/>
            </a:br>
            <a:r>
              <a:rPr b="0" i="1" lang="en-US" sz="2800" spc="-1" strike="noStrike">
                <a:solidFill>
                  <a:srgbClr val="ccffff"/>
                </a:solidFill>
                <a:latin typeface="Tahoma"/>
              </a:rPr>
              <a:t>Code Re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System%20Path%20VI" descr=""/>
          <p:cNvPicPr/>
          <p:nvPr/>
        </p:nvPicPr>
        <p:blipFill>
          <a:blip r:embed="rId2"/>
          <a:stretch/>
        </p:blipFill>
        <p:spPr>
          <a:xfrm>
            <a:off x="2438280" y="4648320"/>
            <a:ext cx="4343400" cy="150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milton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849-BCC2-4CF6-9B9F-B6EA3062BF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AEFF5-BFA3-4EFD-9DBE-8C74791249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lution Example 2: Error Log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y code for every application should have some error handl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rror message should be displayed to the user  - but not lost to the world: would be nice to store them to a fi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hile we’re at i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it would be nice know what caused the error and system condition at the time of erro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94920"/>
            <a:ext cx="7467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LabVIEW Large Code Architecture: Series II</a:t>
            </a:r>
            <a:br>
              <a:rPr sz="2800"/>
            </a:br>
            <a:r>
              <a:rPr b="0" i="1" lang="en-US" sz="2800" spc="-1" strike="noStrike">
                <a:solidFill>
                  <a:srgbClr val="ccffff"/>
                </a:solidFill>
                <a:latin typeface="Tahoma"/>
              </a:rPr>
              <a:t>Code Re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milton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247-B56A-447C-AEF7-EA6FFCB81DF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4A977-5A11-465A-9C08-B06F87BF38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rror Log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s the input error cluster – posts a user dialog only if the error bool = Tru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ows the recording of the Calling State to identify the offending ‘State Command’ that caused the err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cepts input XML which can contain XML cast data the system variables at the time of the err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ves the user the option to log the error message and data to fi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ears the error output cluster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94920"/>
            <a:ext cx="7467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LabVIEW Large Code Architecture: Series II</a:t>
            </a:r>
            <a:br>
              <a:rPr sz="2800"/>
            </a:br>
            <a:r>
              <a:rPr b="0" i="1" lang="en-US" sz="2800" spc="-1" strike="noStrike">
                <a:solidFill>
                  <a:srgbClr val="ccffff"/>
                </a:solidFill>
                <a:latin typeface="Tahoma"/>
              </a:rPr>
              <a:t>Code Re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0" y="1066680"/>
          <a:ext cx="4191120" cy="200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066680"/>
                    <a:ext cx="419112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milton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64A-FD7F-4E07-BC96-744557A447A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3563C-944E-4D28-AF6F-9836665A37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 Hamilton</cp:lastModifiedBy>
  <dcterms:modified xsi:type="dcterms:W3CDTF">2003-11-11T23:27:00Z</dcterms:modified>
  <cp:revision>47</cp:revision>
  <dc:subject/>
  <dc:title>PowerPoint Presentation</dc:title>
</cp:coreProperties>
</file>